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3310A4-7741-43C9-BFEF-C5BAB4819C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11A443BB-C6DA-43CD-A4B1-35D058936E7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C6C2A0F3-B452-40FE-AE99-58A5A467653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D6D5F7F9-935F-4F69-A5E1-749CC1DE837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1AC57CBC-7B29-4F25-9D72-57308655FB1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03ECAC5-A59E-4B42-802F-E0A3C29B3DF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025AE04-8EF0-4C40-B1B5-D597880F606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4903D62-0A87-40D1-A5C9-F6AABF1514C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00757A5B-123B-495F-8540-69271CAEE48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B05B0ECC-061E-4DF1-904D-1A3329C6696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4E6F9A1F-8BCB-4BFC-AA83-7C4A51A40B7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A4215BE-5765-4B14-9FEA-12D7C9857D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DC067F67-2AF0-4F01-8BF6-7A3F6C1B5BC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4119B2F7-599D-4B88-8E55-58CBE8B3994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5ED882E4-B120-4E9E-9B1C-A1EB7AEF564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67E1088D-B36B-4BB5-B1DA-0326776D5AD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D1050472-A6A5-4BA5-A1B2-EB37B4D8140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818B20D1-B3AD-4747-9530-891FA740C5A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37EBF42-BB25-47FF-8472-F767D92F220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CB51BD2-14B1-41EC-A143-16E7B88A38D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E4FFDDC-1D40-4C0E-9C61-CEB1C1A8BBF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93D96C66-6E17-4D82-A276-5683E541377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7607EB85-44A1-4995-8797-B98F773991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02060F7E-E2F1-4E5A-9956-E05AF4DA075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E5303EC0-9478-4587-8DE1-F65B58446A1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C07340A-B03E-4AE8-9025-34E5CE117DD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D34EF8A9-1D3A-4305-AA3B-01B0F1019E4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CB6BD284-8F5D-4DA1-A914-531047DE677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E7606508-B7FA-4F07-A7A1-A85863F9C8C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9B6586FF-E397-49A1-9BE3-B7879A5B688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17A1DF15-C3C4-4CA1-8E20-5042A4D334A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F808DE8-F6B0-45CF-83FD-DAF5C661646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B56E804-96BC-451F-8801-DA2719714C4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870A90F-3401-480B-99A1-F4CB98C3D4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971B0356-26A4-46FB-8213-1985C1173FF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A4DF7057-0E84-438A-93F2-DD88B4770D8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755DA32B-9671-4F33-B8E7-BDFB9297D3D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5FAB747-9347-4397-86C3-AC55191D9C8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6458DF8A-7BFB-49AF-A633-D0025178107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6738CCD1-0807-44EA-B219-3F760C9E9FC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25F8AFD4-35DE-452A-A2A7-88A826B9869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69485280-851F-483A-BEB7-A512A834A64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36B5F736-551E-4378-8CE3-1C16812B743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49F3AD6-0E52-4A05-9B02-D588C4DE1B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35144B9F-EA0A-4FEE-8181-1C149E7A370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02E1353E-380B-4A96-AE70-1B554DF5900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0AA5FE4C-EED6-4E36-B116-76F594E2BC5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3AA419DF-C9BB-4D96-80B4-DB8AA86BE42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420E5E1A-0110-427A-A100-5C5855F2D7F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AFD1192-F6A0-4942-A7D8-291307461B3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D1C5F720-E7A1-47E0-B6A0-08E5F6433A5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856CD4A9-4B52-4628-B0B1-099ED16401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14BF2871-8862-4E85-AEF5-2212A92556E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3DAC2D36-1C90-4A17-B6B8-5D3F2BD22AB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07D90B12-5BB3-4C92-B4A0-2BCECA6E362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0082CF39-ED77-4631-BB78-06477B287D6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DD520D7A-D26C-4AE2-91F8-CA3734167FD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90C4D593-9EC9-449E-8707-EBAAFAF2FF3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713CB5F3-9D59-4A6D-A39D-4F3B54A8C53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F8666688-4B05-45F0-AE22-C74694CE98A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9C45CC7E-6642-4EF2-B44D-2DE4378C152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C21B1470-45F2-4095-B508-F64B6D5010F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6FD2AA0F-6432-443B-870E-B3EFD53F7850}"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E264797B-0C6A-4F62-B90C-D975533B5CA7}"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D8C8D5EF-4CA1-4FAC-8ADE-4431A2866ECA}"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D71E5BB7-3892-4C9A-BCDD-E7D99C742772}"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5309D269-EB25-4678-AB61-3245CCADC364}"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BF2435F-A0CE-43BC-A27F-61220C0070AE}"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459DF20-9C91-422A-AF8D-743A01BA984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E03C2A1-74B3-4B8E-BD40-8B020D3267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D30E4070-A441-400A-A89C-2BC03C7D5E1A}"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E87F1140-3E63-4CF1-A0C6-A4554D2E45D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55CE95F5-FD59-45E6-8498-6E35ED9EED14}"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4022019-9C87-461D-BD31-CD05681086F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0ECA021B-4A48-4718-A7E6-E4611B675BD6}"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428EF94D-44D9-4580-B5F6-16C767CD42A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D528C75D-ADEB-44A3-B68E-F702B200D36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5A654AF2-4D75-4CA8-AC22-4186C32BC0A3}"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E3B9B99C-3A2D-43BA-9A0A-6E0DFF1827A5}"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BD9F02C2-AB56-4856-95C1-4EDFA56A07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76E9F881-A2A5-4BA5-BB46-C6191CEEB2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681F463-3A58-4122-AE0F-9BDF905FF10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6A4F519-842D-44AC-B597-97133B674F0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9DB68E4D-47BD-4436-BD69-3720267D579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ED3FB366-EAAF-4734-BF41-E2740FC2CA2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1925FCCC-B0EA-4EEF-86BF-8419922A21B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F66CA5BD-89EE-4463-A658-A6D6CC7C4A2A}"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64FD860A-22A1-4F2A-AF8C-4E9BDABAE3CE}"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7166195B-149E-4157-A7CC-07500755F6C3}"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8E7F8513-F990-44D5-B906-A902A1DB83A1}"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8B39EB12-A30B-4808-A907-91961478ED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CF4DEDB7-6530-442E-A4A5-ED335151524B}"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C0C3B2F-BC75-4C40-A1D9-468F463C2634}"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3BB77C7-E9A7-4F4B-A3D2-DBF252DF11C8}"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6DF82B8-8C11-4017-837B-71F79DFA06D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DA23B5D3-A49D-4E30-BF3A-6BBEF554242B}"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92C175A0-ED69-4C30-BF07-99EF54BABB10}"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0BA27818-BEDC-42AB-B875-A068A676238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5BA990A-4F50-48B3-BF75-AAE7C944ED4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AB0EFC89-0CC5-40B7-9DB6-CC401235897E}"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5FB17BF9-3FE3-4289-A331-E28E43C6EF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621AD4FB-6F3E-409B-8C9F-20689445173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C733AE0C-15F6-47B2-B663-ABF7A5FE4B3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9588295B-77F6-4F60-BA89-EDB3BB72C296}"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71456FA0-0B0A-4660-A6AD-EDC13546F072}"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BEDD004B-038B-4E83-B4CE-644DF7ADC067}"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0F9DE52-E499-4DC8-B3CC-7CB3D32ED36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34CB288C-CC99-4178-866A-6E77A4F7EF4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5E938BC7-3A5E-4211-A820-1124E89C0991}"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6B6FC5F4-87B7-4806-89BE-62FBD971304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15C7133F-29CA-4D7F-BBB2-B6086021B0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B81A515A-1A0D-46A5-A4E6-32E07AA23684}"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C02F1931-09D8-4871-B533-D9354A177904}"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0BFDBA67-E5A7-4BCF-A792-BA579359A4EA}"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41FA17CB-9B05-4C07-838A-385B0124AB90}"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C1B76BB9-ECDA-4213-8EAA-57A3E24FD3BF}"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8C5D127-74EA-456E-9943-3038CD8FFA3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713B5609-B276-46C7-BA08-7E850D9570CB}"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7441D8F3-D609-4A9A-A94C-4D75EEA01F5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8522819F-C19D-4040-A3B3-9FC26D22992A}"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9220B806-8034-4A3D-8FD5-088F0C19A3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82EBE7F5-CF8D-4EBD-B81B-84F7BB85969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6D2D8F0-4EA1-4D39-AD5C-B8A3FFCB435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D3DB8A8C-4602-494F-A6BE-602A0234EF1D}"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6AD84A87-7934-4567-AA11-353F60C48F7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53537AD5-68CB-4B5B-AAC0-11C5114BA49D}"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84EDAFA8-45CB-4B84-B7C1-0942D1E05A6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D030DBBF-40A8-4F0E-912A-738D02CF4FEA}"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2A823AD-60A5-4307-ABE7-A863E0DD74D4}"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32DAF4A-C22B-426C-8B80-B0DDF85FB0D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86D5420-5A21-4DC6-A508-707189DD5B6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D778FE-6366-48C7-9E6D-300BE61CBFF9}"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597EA1FE-3918-4B4C-86D6-7282FE9CD5E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55976442-FA2C-4D07-A8B0-280CA09B23F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0D560CAA-0B10-4760-A972-B2BF789B03F3}"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611519ED-FD79-4675-9333-7DD17D3D77C5}"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B8CF87B5-D1BA-4647-A5DB-7AF19377ECC4}"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56003DF0-16BB-42BB-9B53-706687AD994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4708EB89-EBB6-42D9-80FB-FDD330000934}"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BDE4E90F-D4C7-4E5E-8BBC-4C6E1BBB8BA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50A77036-D37F-4F60-882D-982B8F870F3A}"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DA2EF97-46A7-4F46-9FC3-58D675BD04D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D118D307-FEDE-4BE6-B3A1-CA325745664D}"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5EFCB8E3-B965-4469-A325-53D01C62C25F}"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EB1C311-147D-48A8-B9D4-AD233D6C8656}"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A7EBEBED-ECF4-4F3E-A802-D7F2C1A45844}"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1F654954-C42B-4D47-83D7-A98FFA2C660D}"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ABCB2546-BD08-4D08-8833-F971FEC849D7}"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CEBEFD2-F5D6-4960-B239-D2FE91437A03}"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5DBA0F99-DE0C-4D35-B37E-AF80A13434E5}"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5E7F7FAB-3D27-4D64-9147-C57D00BC4E76}"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B1CB98A0-A6DA-4E4E-80BB-5A10ACD9C14B}"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5955AA94-9BE9-4175-88A1-C88F6AA6FF3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86D714B2-84FC-4117-8DC2-FC3D8A25C6D5}"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81B9C7DD-43E1-4D34-B0F7-6591585904D9}"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0BB00EE8-85F4-4581-A5BD-D6E99D349466}"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4D41A6B0-4844-4EC7-8ED0-6E37BD942E03}"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07F1A618-E595-4E91-A387-956E4D4831EB}"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AFF54A1D-A8D9-4645-9C9D-7112B5C43A94}"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51DFD9B3-370A-4413-9C90-2B97D71736C0}"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7158869B-3A82-42A4-8A00-75C13F332CDA}"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C54B3740-92E2-4BE2-B615-2F29EF02250A}"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021E15E3-E044-4BB6-98A8-1293A59C6D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3C28FD58-6A62-482B-8007-6D6AFA9CA0D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5751E09C-2941-4C4A-B61E-EDB96799B10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045D63C-F8E2-44FC-9CF4-A7A753D7626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1D9724E-63C0-43D9-AAE2-A195A23A965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857AEEE-4163-4C98-AEF0-8BEBACD9E23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4B98C858-6831-4697-9655-2C014E51FDF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31F9F504-147E-44B1-BC73-2CA2F69946B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34CF0EDD-CF0C-478E-AEA7-D0A7297E7CC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11BE260-EBA3-491C-B41A-7D8621D0180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ABFF8F50-2C64-4E1B-9DF0-1F15504F620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3606F04B-11B5-42EF-9122-F6905359B3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42E8A273-097B-451F-9793-05D89C891F8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6BE25AAC-31F8-466B-9E2B-9F7E28F5C2F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BA998C8C-3679-4247-859F-700CDAB7FB9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D5322FC4-222E-4B12-BB2F-C5041DDE3BA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9FB7D1A-C559-421C-A71C-F22E68C3097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6D09DC0-E8A9-4124-80EC-F431C6302C1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D8935C1-155B-40A5-A391-947AE743F28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51CD048B-D14D-4E74-AAAA-95482B0D9CA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E63FCE41-8527-4F3F-AA62-A797BFD7FC6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8215D2B5-1074-4003-A75A-54F04F0EB78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CECB80-E08A-4A2C-B61C-4316A8A8D7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E93B4B67-AA9B-422B-855B-132F1069D69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61BAF70C-5698-4220-A35F-883159E98A5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61124D90-A6B2-41A0-8FFC-39ED232FCF3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951D3684-CAC6-4D7E-B4AF-EAA2A8EDE03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E31E1E63-62BD-4ECA-80A9-5F1F9F2E354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B8B393E0-70EE-4EE3-BFAB-171330ABC22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A5AD4A8-D2C9-4600-A23F-274AC69B037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7566E99E-0A3F-4945-87AB-82C3690F179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3ED2EB7-051E-4AD4-894C-8D041ABC6CC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F635F808-B3EB-4CAF-99AE-B8E19371B21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680D73F9-4A91-41B2-92FB-9AE07BBAAA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2AC82EF7-4496-49FF-BF32-891A21E7E8E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AAA3F977-23C9-4E80-B1E9-0E68750BA53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82A4F65-D08B-4E06-9DC5-73E4A3E4B83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CC3780E7-41EC-4661-A0D4-97F1B07F980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4107542-3301-4D45-8817-BD15EEA51E5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198E6CE1-4B6B-49E8-A90E-A2C7E2303EA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EEE93B21-67E4-4262-A795-9FED95CD28C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02B8C0F4-00DF-4E56-9682-C63AF589D15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5C10B70-1EB6-4A9E-9AE8-1B93BE5FD25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911ACF0-1C5B-4C89-9D60-E97CA121DF9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205B09C-378A-4A81-A101-A5DC62FA88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76395F2F-9CAB-481C-BD82-44549323B24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78F1351E-1D12-427A-8BA4-7661BCF7F0D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74D1B2D5-EC41-4946-A136-0BFEB4D9C18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EF67BCE3-ED25-4EE9-B079-377E77CA7E3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6B62AEC-A985-49E7-9168-CD2C2CBB80C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BC60B50F-A28D-47AE-9B5B-788967D6EC4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FE36982F-AEB9-4264-8E3D-E4FF5E2411C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B84102B-081E-48F3-B74A-A1A7475ABD1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D82334C9-8874-474D-BA32-9D5BC0D91A3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C58FF436-8182-4C4C-85F7-0D939B55D1C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1553636-2C29-4B71-AF20-288A021347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72AAA24-DC78-4667-B270-A5048C19F8A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A6771EB-CEE8-4025-BBDE-3E374989E87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2664A9F-AD1A-439E-9993-3E189E36B0B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54C31786-F8C0-40DF-A932-7540888E314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5D722649-538D-47CB-844A-DB297162348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5355B7D4-3769-4531-9A17-F5D2A2AB6F3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CD76373-61A1-46FD-901A-834920C2C93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7E82B342-1D5F-4329-AB25-E6ABB8D257C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94641DCF-1B56-45CB-8640-47D1EC0AF1F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81D5BE30-7B6F-44FC-859D-12A38AE88D8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3F4618C1-2902-4B61-AB6E-95DCBD321A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5394551D-A0C4-40F8-B6DA-96F321000FF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C5D5EB69-84E8-46E2-BFB7-BBACFDF840A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C09C3AC-4E67-401C-AD57-DA693513B8E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ECEBF8B1-8441-4185-95BC-75657206F5F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20F20D0-97D7-48C3-957D-EDA9E17A66F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7E632443-0DD3-4796-94CD-D17A06D3164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51EDC770-50C8-4D32-944E-FBF48BD9FE3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57308624-5017-4887-8904-3178DB9FF72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3642A54-F4FC-4BFD-B71D-FAFB77A9131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9E83FDED-9A78-4DC5-BBB3-8B877233EB5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7C731D0E-BFE2-40EF-9FC3-015507318A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CEEB1-111E-4A06-B8C4-250073AE6089}"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55732-C0AC-4F5E-9A64-2761495540E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B57D1-F11A-4DE2-A928-A2D9265F51B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828F-C052-40F8-B746-F56AF2789D4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6A61D-A2AD-4B33-86C5-0414027B3A6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98F4-D825-4994-9DBA-55813BDD874D}"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B149B-970A-4860-9ABC-98FD5217314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8E190-C881-442C-B380-594F1B603F8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A0CC5-CA3B-406A-88C3-C77E7636BB2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37415-EF5B-4C23-BD6A-1F22499DDCE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92451-8E20-4DCF-A22A-343EDFC9D47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384FC-A6D5-4CEE-9E88-868237E0520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C9A07-B3F5-402C-90ED-EACC5AE45FC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10D15-541E-4033-BAAB-F3D376EE2DF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60213-173E-43D9-95B4-05F7061F991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FF574-6993-4541-8821-AB0C6419B145}"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046BC-22F6-486B-A041-F6821035E98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70B2B-065D-404F-8A3C-04BA609A552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18C9-B2C1-4A08-8FFC-F33B700025E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A486E-0F83-43B6-A4F6-6844D30ACD1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23B3-0B87-4D7A-82A2-447D7D775F8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D58A-B4FD-426D-A150-935FD5D7A92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666880"/>
            <a:ext cx="7696440" cy="13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6269-4C79-4944-83AA-4AD2204F71C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2FCC-2125-4CB4-8D85-1D481002AF8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CBEE1-D98B-4760-8D8F-682C9E20638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C7EAB-22F0-4A7C-9C7B-9D22E2FF80D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46A4-10AF-4B2C-907D-A924F8B39C9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7EDEC-4B2B-4239-BB7A-AF5A8091F89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0D1DA-C2A2-4219-8A98-16ACE668309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D78EC-9263-4329-A841-D3F50614C8D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9B78-8821-4ED1-9C6D-96A18B3B0C4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9DF1F-F442-4C3D-B7C4-C35C07C9E27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4920"/>
            <a:ext cx="8137440" cy="4436640"/>
          </a:xfrm>
          <a:prstGeom prst="rect">
            <a:avLst/>
          </a:prstGeom>
          <a:noFill/>
          <a:ln w="0">
            <a:noFill/>
          </a:ln>
        </p:spPr>
        <p:txBody>
          <a:bodyPr anchor="t">
            <a:normAutofit/>
          </a:bodyPr>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s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mental</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iton</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7E543-7C2F-42E9-8636-18D595FEECF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D31ED-CAB5-4978-8977-63D6E23B01F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 </a:t>
            </a: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6ECA-EC31-4809-AB0B-026F1E6612F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CF1E-6372-4FC6-9EE9-20536A31173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0247D-342F-4E23-80AA-F526655A78B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BE2E-6A78-4233-B899-2A3BB934A5B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F7E57-2E37-4F1F-A5FE-A9853CE3B00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D8B1-717E-4D0D-8F5D-A64E3EE7ED1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FDFD8-B7D1-4841-86C1-5AA7F23F9EB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46Z</dcterms:modified>
  <cp:revision>36</cp:revision>
  <dc:subject/>
  <dc:title>Text-Dependent Questions</dc:title>
</cp:coreProperties>
</file>